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1F4-913C-4317-B5BB-5C0B6F7B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45A-6779-4C54-8B77-0750FA89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23D-D1C3-4E17-A2AA-3597E681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AE2-C7CC-4927-B1FC-2A048385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250-B984-490A-9B91-50DF9EE9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A28-CC1A-4A86-A63E-C5A5838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D96-397C-44CA-A2DA-D1FC221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42D-BDAE-4FE3-B8DB-619B30EE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4DC-C28B-48DD-940F-52A683DE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83F-40AB-42AC-BE87-6EECD7E4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38A-E283-4AB9-A9E0-06C3DD7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43E-34B7-4D9C-B3F0-C5A2FE6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1DD1-9261-4883-9284-174B1060A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eachersdomain.org/asset/tdc02_vid_arctic/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hoto: Tundra in fall colors with the high Sierra surrounded by cloud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ND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: Dalton Sh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 Georg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Pr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5.31792E-006 C 0.0125 0.006 0.03316 -0.00625 0.04774 -0.00833 C 0.07691 -0.00695 0.08593 -0.00741 0.10798 -5.31792E-006 C 0.13576 -0.00163 0.14635 -0.00278 0.16996 -0.01041 C 0.21232 -0.00903 0.25451 -0.0081 0.29687 -0.00625 C 0.32031 -0.0051 0.34288 0.00461 0.36666 0.00646 C 0.38402 0.02242 0.37656 0.01849 0.38732 0.02334 C 0.40225 0.04253 0.37465 0.00785 0.40798 0.0423 C 0.41388 0.04831 0.41736 0.05756 0.42395 0.06357 C 0.43506 0.086 0.45451 0.09941 0.46666 0.12068 C 0.46961 0.126 0.47222 0.13178 0.47465 0.13756 C 0.47812 0.14589 0.4842 0.16276 0.4842 0.16276 C 0.48368 0.18334 0.49097 0.20855 0.48107 0.22427 C 0.4618 0.25502 0.48576 0.20901 0.46996 0.23675 C 0.44166 0.28623 0.45868 0.2786 0.43819 0.28554 C 0.37569 0.27814 0.31197 0.27537 0.2493 0.27074 C 0.21059 0.25756 0.19913 0.25132 0.17465 0.20947 C 0.16093 0.1519 0.15868 0.15583 0.15729 0.09109 C 0.15677 0.06566 0.14947 0.03698 0.15885 0.01479 C 0.16076 0.0104 0.22691 -0.01342 0.23177 -0.01481 C 0.32934 -0.0451 0.3 -0.03862 0.37465 -0.04856 C 0.39166 -0.04718 0.40868 -0.04764 0.42552 -0.0444 C 0.4677 -0.03631 0.49566 0.05641 0.50642 0.09941 C 0.50694 0.10797 0.50798 0.11629 0.50798 0.12485 C 0.50798 0.14311 0.5085 0.16184 0.50642 0.17987 C 0.50434 0.19745 0.47812 0.21016 0.47152 0.21571 C 0.39739 0.27907 0.43454 0.2675 0.38732 0.27698 C 0.36562 0.27144 0.34305 0.27005 0.32222 0.26011 C 0.30486 0.25178 0.2927 0.21918 0.28888 0.19675 C 0.30694 0.15513 0.33506 0.13456 0.36996 0.12693 C 0.39965 0.13178 0.39843 0.12623 0.40798 0.16068 C 0.40902 0.16924 0.41111 0.17756 0.41111 0.18612 C 0.41111 0.22774 0.38055 0.21664 0.35729 0.21779 C 0.32795 0.21479 0.31875 0.22219 0.30173 0.19883 C 0.29513 0.17594 0.29131 0.15883 0.30798 0.14172 C 0.31128 0.13826 0.31493 0.13409 0.31909 0.13317 C 0.33107 0.1304 0.3434 0.13178 0.35555 0.13109 C 0.35989 0.13178 0.36441 0.13109 0.3684 0.13317 C 0.38385 0.14126 0.39461 0.16762 0.40173 0.18612 C 0.40416 0.20253 0.40625 0.2067 0.39531 0.22635 C 0.3934 0.22982 0.38888 0.22774 0.38576 0.22843 C 0.36892 0.22566 0.35121 0.22704 0.33506 0.21987 C 0.321 0.21363 0.30451 0.17155 0.29843 0.15236 C 0.29895 0.1475 0.29826 0.14196 0.3 0.13756 C 0.30069 0.13548 0.30312 0.13548 0.30486 0.13548 C 0.32066 0.13618 0.33663 0.13826 0.35243 0.13964 C 0.38316 0.16022 0.39131 0.16623 0.40486 0.20716 C 0.40503 0.20878 0.40989 0.24068 0.40173 0.24323 C 0.39427 0.24554 0.38697 0.23837 0.37951 0.23675 C 0.35763 0.23213 0.29618 0.22727 0.28576 0.22635 C 0.27083 0.21641 0.26458 0.2104 0.25729 0.19028 C 0.25781 0.18681 0.25711 0.18265 0.25885 0.17987 C 0.2651 0.16993 0.27517 0.17941 0.28107 0.18196 C 0.29114 0.19537 0.29687 0.20947 0.30329 0.22635 C 0.30399 0.23444 0.30833 0.26473 0.3 0.26866 C 0.28888 0.27398 0.27673 0.26381 0.2651 0.26219 C 0.24288 0.25918 0.22066 0.25826 0.19843 0.25594 C 0.19427 0.25733 0.18941 0.25687 0.18576 0.26011 C 0.1618 0.28253 0.21232 0.25178 0.1842 0.27074 C 0.17517 0.27698 0.16423 0.27652 0.15399 0.27698 C 0.12326 0.2786 0.0927 0.27837 0.06197 0.27907 C 0.06319 0.34843 0.06163 0.41756 0.07951 0.48415 C 0.08489 0.50404 0.08368 0.50889 0.09531 0.5223 C 0.10989 0.53941 0.12013 0.54196 0.13819 0.54542 C 0.15416 0.55259 0.12881 0.54196 0.17152 0.54982 C 0.17743 0.55097 0.18298 0.55537 0.18888 0.55606 C 0.20902 0.55883 0.2493 0.56022 0.2493 0.56022 C 0.2743 0.55907 0.3309 0.56808 0.3651 0.54982 C 0.37465 0.5371 0.36562 0.50519 0.36197 0.48831 C 0.35746 0.46774 0.35329 0.44716 0.34774 0.42704 C 0.34236 0.40762 0.32274 0.40508 0.31111 0.39953 C 0.29236 0.39074 0.27881 0.3808 0.25885 0.37641 C 0.21128 0.37849 0.19895 0.37733 0.16041 0.41016 C 0.14149 0.44508 0.16215 0.39976 0.15555 0.45248 C 0.15191 0.48207 0.14566 0.51097 0.13819 0.53918 C 0.12048 0.60646 0.10868 0.59005 0.05243 0.5919 C -0.03889 0.62242 -0.0882 0.62912 -0.18559 0.63629 C -0.2073 0.6349 -0.22917 0.63537 -0.2507 0.63213 C -0.26389 0.63005 -0.27101 0.61571 -0.28247 0.61109 C -0.2882 0.60878 -0.29428 0.60878 -0.3 0.6067 C -0.31667 0.57525 -0.31789 0.5408 -0.32223 0.50311 C -0.32171 0.48207 -0.32414 0.46034 -0.32049 0.43976 C -0.31928 0.43305 -0.29202 0.42496 -0.29202 0.42496 C -0.27014 0.41479 -0.22691 0.39329 -0.22691 0.39329 C -0.21112 0.39606 -0.1948 0.39629 -0.17934 0.40184 C -0.17674 0.40276 -0.17014 0.42635 -0.16823 0.43144 C -0.15452 0.4682 -0.17032 0.41964 -0.1507 0.46727 C -0.12709 0.52461 -0.1474 0.49271 -0.1158 0.5475 C -0.10261 0.5704 -0.09028 0.5956 -0.07292 0.61317 C -0.05938 0.62681 -0.03334 0.63467 -0.01737 0.64485 C -0.00139 0.65502 0.01093 0.6645 0.02864 0.6682 C 0.07899 0.62589 0.11493 0.5112 0.13819 0.46519 C 0.16562 0.41109 0.19843 0.3482 0.23663 0.3045 C 0.2467 0.29294 0.2585 0.28461 0.2684 0.27282 C 0.27048 0.27051 0.28368 0.23629 0.28732 0.23467 C 0.32708 0.21687 0.371 0.22542 0.41284 0.22196 C 0.49809 0.20785 0.58055 0.20022 0.66666 0.19675 C 0.65954 0.18219 0.66406 0.18566 0.65555 0.18196 C 0.64184 0.15953 0.63107 0.13063 0.61441 0.11213 C 0.57812 0.07213 0.53281 0.05664 0.48732 0.04878 C 0.46059 0.05178 0.43975 0.0497 0.41597 0.06149 C 0.40816 0.06542 0.38472 0.08392 0.38107 0.0867 C 0.37847 0.08878 0.3467 0.09271 0.34288 0.09317 C 0.33923 0.09456 0.33541 0.09548 0.33177 0.09733 C 0.32586 0.10034 0.32361 0.10727 0.31753 0.11005 C 0.30243 0.14034 0.27777 0.15444 0.25399 0.16924 C 0.246 0.17409 0.24097 0.18126 0.23177 0.18196 C 0.20381 0.18381 0.17569 0.18334 0.14774 0.18404 C 0.1368 0.18681 0.12899 0.18774 0.11909 0.19467 C 0.10746 0.203 0.10225 0.21063 0.08888 0.21363 C 0.06736 0.22566 0.08802 0.21664 0.05399 0.21779 C 0.02951 0.21849 0.00763 0.22149 -0.0158 0.22843 C -0.03004 0.22774 -0.04445 0.2282 -0.05869 0.22635 C -0.06059 0.22612 -0.06164 0.22311 -0.06337 0.22196 C -0.06754 0.21918 -0.07605 0.21849 -0.07934 0.21779 C -0.08646 0.20369 -0.0816 0.1949 -0.09046 0.17987 C -0.09237 0.16138 -0.09497 0.1445 -0.09046 0.12485 C -0.08941 0.11999 -0.08334 0.12022 -0.08091 0.11629 C -0.07796 0.1112 -0.07431 0.10681 -0.07136 0.10149 C -0.06719 0.09409 -0.06146 0.0823 -0.05869 0.07398 C -0.05244 0.05525 -0.05955 0.06681 -0.0507 0.05502 C -0.04757 0.0423 -0.03681 0.02357 -0.02691 0.01918 C -0.0224 0.01271 -0.02101 0.01086 -0.01424 0.00855 C -0.00851 0.00253 -0.00487 -0.00556 0.00173 -0.00833 C -0.0007 0.00993 0.00225 0.00161 -0.00938 0.0171 C -0.01042 0.01849 -0.00782 0.01271 -0.00625 0.01271 C -0.00521 0.01271 -0.00417 0.01271 -0.00313 0.0127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Adap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ck Ptarmiga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mouflages by changing its feathers and blends in with its surroundings. It is a helpful adaptation because it helps it hide from pred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ctic Fox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ot well-furred feet. This is a very helpful adaptation because it keeps it warm from the snow it has to walk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k Ox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obtained a dense undercoat. This is helpful to the Musk Ox because the cold nor the water can penetrate this co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abundance of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mining for 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question-mark.jpg question mark image by dawnologie"/>
          <p:cNvPicPr/>
          <p:nvPr/>
        </p:nvPicPr>
        <p:blipFill>
          <a:blip r:embed="rId1"/>
          <a:stretch/>
        </p:blipFill>
        <p:spPr>
          <a:xfrm>
            <a:off x="2362320" y="609480"/>
            <a:ext cx="4354560" cy="5443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ne animal adaptation of an animal in the Tundra and how it helps that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mammal that lives in the Alpine Tund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ermafr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egative effect of drilling or drilling for oil on the environment of the Tund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ffect of global warming on the Tund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varieties of flowers are there in the Arctic Tund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09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422892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0692200">
            <a:off x="533160" y="403812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9882800">
            <a:off x="4952880" y="3580920"/>
            <a:ext cx="3886200" cy="2565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775800">
            <a:off x="6171840" y="30456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8760" y="676440"/>
            <a:ext cx="8286480" cy="550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9080" y="3124080"/>
            <a:ext cx="67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achersdomain.org/resource/tdc02.sci.life.eco.arcti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mbgnet.mobot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lueplanetbiomes.org/world_biom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cmp.berkeley.edu/exhibits/biomes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sdomain.org/resource/tdc02.sci.life.eco.arctic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TON: 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SON: 4,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: 6,8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the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tic and Alpine Tundra Temp. and Precip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ld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winter temperature is -34° C (-30° F), but the average summer temperature is 3-12° C (37-54° F) which enables this biome to sustain life. Rainfall may vary in different regions of the arctic. Yearly precipitation, including melting snow is 15 – 25 cm. (6 to 10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undra is dry, cold and wi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tic and Alpine Geological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il is formed slowly. A layer of permanently frozen subsoil called permafrost exists, consisting mostly of gravel and finer material. The soil lacks nutr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gs and P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ainous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cky pl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Shrubs, sedges, reindeer mosses, liverworts and grasses are some plants found in the Tu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frost effects the soil. It freezes the soil permanently and many meters down. This is why the tundra has no long root system and only sh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62440" y="3619440"/>
            <a:ext cx="4381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in the Arctic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bivorous mammals: lemmings, voles, caribou, arctic hares and squirr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ivorous mammals: arctic foxes, wolves, and polar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ory birds: ravens, snow buntings, falcons, loons, sandpipers, terns, snow birds, and various species of gu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s: mosquitoes, flies, moths, grasshoppers, black flies and arctic bumble b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4876920"/>
            <a:ext cx="1761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in the Alpine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s: pikas, marmots, mountain goats, sheep, 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: grouse like bi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: springtails, beetles, grasshoppers, butterfl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9400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 in the Arctic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,700 kinds of plants in the Arc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hrubs, sedges, reindeer mosses, liverworts, and gra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 varieties of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ose and foliose li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62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 in the Alpine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ssock grasses, dwarf trees, small-leafed shrubs, and hea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At treeline"/>
          <p:cNvPicPr/>
          <p:nvPr/>
        </p:nvPicPr>
        <p:blipFill>
          <a:blip r:embed="rId1"/>
          <a:stretch/>
        </p:blipFill>
        <p:spPr>
          <a:xfrm>
            <a:off x="2590920" y="28954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ion from mining and drilling for oil has polluted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unting Tundra animals such as Musk Oxen and Carib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making the Tundra heat up and the glaciers will melt, causing the plants that live there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evelopment of building roads and structures in the Tundra will cause people to kill the plants that are needed to keep the soil heal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3600" y="4800600"/>
            <a:ext cx="27478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2:26:20Z</dcterms:created>
  <dc:creator>xpstudent</dc:creator>
  <dc:description/>
  <dc:language>en-US</dc:language>
  <cp:lastModifiedBy>jayoig</cp:lastModifiedBy>
  <dcterms:modified xsi:type="dcterms:W3CDTF">2010-10-28T11:53:27Z</dcterms:modified>
  <cp:revision>19</cp:revision>
  <dc:subject/>
  <dc:title>THE TUNDRA </dc:title>
</cp:coreProperties>
</file>